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Интегрисане академске студије фармације</a:t>
            </a:r>
            <a:endParaRPr b="0" lang="en-US" sz="36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едмет: Енглески јези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едавач: Душица Лази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y Equipment</a:t>
            </a:r>
            <a:endParaRPr b="0" lang="en-US" sz="28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gar plate is a sterile Petri dish that contains agar plus nutrients, and is used to culture bacteria or fungi. Generally, selecting substances are also added to the plate, such as antibiotic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pirator is a common piece of laboratory equipment. It provides a strong suction via the Venturi effect. It needs only a continuous stream of water to operate. The aspirator fits over a faucet and has a hose barb on one side. When water flows through the aspirator, gas will be sucked in through the hose barb. It is cheap to manufacture and operate. The strength of the vacuum produced is limited by the vapour pressure of water (24 mmHg at 25 degrees Celsiu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Language in Pharmacy Practice” by Leontina Kern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o remember:</a:t>
            </a:r>
            <a:endParaRPr b="0" lang="en-US" sz="28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me hoo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titer pl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e rea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ifu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ophotome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rtex Mix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cou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ga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ing points:</a:t>
            </a:r>
            <a:endParaRPr b="0" lang="en-US" sz="28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ces of laboratory equi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lorime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fume hoo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used for measuring light intens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all words that can be used to describe the following:</a:t>
            </a:r>
            <a:endParaRPr b="0" lang="en-US" sz="28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un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dro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oxi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 synonyms for each of the following words:</a:t>
            </a:r>
            <a:endParaRPr b="0" lang="en-US" sz="28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h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take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an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l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esent or Past Participle in the following sentences:</a:t>
            </a:r>
            <a:endParaRPr b="0" lang="en-US" sz="28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arrived, we saw the doctor (examine) the pat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sh) his check-up, he left the hospit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will send you an (illustrate) jour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t last, the sick man started to compl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et some (lead) scientists at this congr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n had a (distinguish) career in the field of genet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the verbs in brackets into the correct tense:</a:t>
            </a:r>
            <a:endParaRPr b="0" lang="en-US" sz="28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ected that you (finish) your work before you came her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sure that he (write) the report for the meeting by seven o’clock.</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ime next month she (have) an interview with one very important pers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friend wants to see what sort of stories he (read) now.</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look for) this interesting books for week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talk) with her sister, but she stopped as he (come) i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were very tired; they (study) for that exam for four hour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t do that exercise as well as you (do) it up to now.</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get) all the information we (want) when we were at the congres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find) it difficult to repeat all these reports every w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a:t>
            </a:r>
            <a:endParaRPr b="0" lang="en-US" sz="28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евести краћи текст на енглески јези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3-02-14T11:02:04Z</dcterms:modified>
  <cp:revision>19</cp:revision>
  <dc:subject/>
  <dc:title>Slide 1</dc:title>
</cp:coreProperties>
</file>